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7304088" cy="9586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3513960"/>
            <a:ext cx="77724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513960"/>
            <a:ext cx="37926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3513960"/>
            <a:ext cx="37926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250236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828440"/>
            <a:ext cx="250236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828440"/>
            <a:ext cx="250236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3513960"/>
            <a:ext cx="250236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3513960"/>
            <a:ext cx="250236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3513960"/>
            <a:ext cx="250236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85800" y="1828440"/>
            <a:ext cx="7772400" cy="322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322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322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322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909720" y="791280"/>
            <a:ext cx="7772400" cy="269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322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85800" y="3513960"/>
            <a:ext cx="37926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828440"/>
            <a:ext cx="7772400" cy="322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322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68480" y="3513960"/>
            <a:ext cx="37926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3513960"/>
            <a:ext cx="77724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85800" y="3513960"/>
            <a:ext cx="77724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3513960"/>
            <a:ext cx="37926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68480" y="3513960"/>
            <a:ext cx="37926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250236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313800" y="1828440"/>
            <a:ext cx="250236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41440" y="1828440"/>
            <a:ext cx="250236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85800" y="3513960"/>
            <a:ext cx="250236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313800" y="3513960"/>
            <a:ext cx="250236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941440" y="3513960"/>
            <a:ext cx="250236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322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322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322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09720" y="791280"/>
            <a:ext cx="7772400" cy="269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322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3513960"/>
            <a:ext cx="37926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322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3513960"/>
            <a:ext cx="37926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3513960"/>
            <a:ext cx="77724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main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440"/>
            <a:ext cx="7772400" cy="322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spcAft>
                <a:spcPts val="150"/>
              </a:spcAft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spcAft>
                <a:spcPts val="150"/>
              </a:spcAft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title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33480" y="4823280"/>
            <a:ext cx="77724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d00a4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550"/>
              </a:spcBef>
              <a:spcAft>
                <a:spcPts val="13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spcAft>
                <a:spcPts val="125"/>
              </a:spcAft>
              <a:buClr>
                <a:srgbClr val="3d00a4"/>
              </a:buClr>
              <a:buSzPct val="12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spcAft>
                <a:spcPts val="113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spcAft>
                <a:spcPts val="99"/>
              </a:spcAft>
              <a:buClr>
                <a:srgbClr val="3d00a4"/>
              </a:buClr>
              <a:buSzPct val="120000"/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33480" y="4869360"/>
            <a:ext cx="77724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d00a4"/>
                </a:solidFill>
                <a:latin typeface="Arial"/>
              </a:rPr>
              <a:t>DX8 Pixel Shader Detail</a:t>
            </a:r>
            <a:endParaRPr b="1" lang="en-US" sz="36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619280" y="5521320"/>
            <a:ext cx="6400800" cy="92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m Dietric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m.dietrich@nvidia.co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Texture Address Ops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52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xreg2ar tDest, tSrc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ample from ( tSrc.A, tSrc.R 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spcAft>
                <a:spcPts val="1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xreg2gb tDest, tSrc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ample from ( tSrc.G, tSrc.B 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se are the general dependent texture read opera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y take part of a color from the tSrc texture to use as S,T coordinates of the tDest texture fetc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3x3 Texture Address Ops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xm3x3pa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dding for 3x3 matrix oper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ses the 3D texture coordinate as a row of the 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xm3x3spec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pute Non-Local Viewer Specular reflection about Normal from Normal Map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spcAft>
                <a:spcPts val="125"/>
              </a:spcAft>
              <a:buClr>
                <a:srgbClr val="3d00a4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x t0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; Normal Ma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spcAft>
                <a:spcPts val="125"/>
              </a:spcAft>
              <a:buClr>
                <a:srgbClr val="3d00a4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xm3x3pad t1, t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; 1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row of 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spcAft>
                <a:spcPts val="125"/>
              </a:spcAft>
              <a:buClr>
                <a:srgbClr val="3d00a4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xm3x3pad t2, t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; 2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row of 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spcAft>
                <a:spcPts val="125"/>
              </a:spcAft>
              <a:buClr>
                <a:srgbClr val="3d00a4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xm3x3spec t3, t0, c0 ; 3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row, reflect &amp; samp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spcAft>
                <a:spcPts val="125"/>
              </a:spcAft>
              <a:buClr>
                <a:srgbClr val="3d00a4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v r0, t3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Local Viewer Reflection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xm3x3vspec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pute Local Viewer Specular reflection about Normal from Normal Map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ye vector comes from q coordinates of the 3 sets of 4D textur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spcAft>
                <a:spcPts val="1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spcAft>
                <a:spcPts val="125"/>
              </a:spcAft>
              <a:buClr>
                <a:srgbClr val="3d00a4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x t0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; Normal Ma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spcAft>
                <a:spcPts val="125"/>
              </a:spcAft>
              <a:buClr>
                <a:srgbClr val="3d00a4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xm3x3pad t1, t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; 1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atrix row,  x of eyevec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spcAft>
                <a:spcPts val="125"/>
              </a:spcAft>
              <a:buClr>
                <a:srgbClr val="3d00a4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xm3x3pad t2, t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; 2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atrix row, y of eyevector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spcAft>
                <a:spcPts val="125"/>
              </a:spcAft>
              <a:buClr>
                <a:srgbClr val="3d00a4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xm3x3spec t3, t0, c0 ; 3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row &amp; eye z, reflect &amp; samp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spcAft>
                <a:spcPts val="125"/>
              </a:spcAft>
              <a:buClr>
                <a:srgbClr val="3d00a4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v r0, t3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3x3 Per-Pixel Vector Rotation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35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xm3x3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tate vector through 3x3 matrix, then sample a CubeMap or 3D tex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spcAft>
                <a:spcPts val="1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spcAft>
                <a:spcPts val="125"/>
              </a:spcAft>
              <a:buClr>
                <a:srgbClr val="3d00a4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x t0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; Normal Ma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spcAft>
                <a:spcPts val="125"/>
              </a:spcAft>
              <a:buClr>
                <a:srgbClr val="3d00a4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xm3x3pad t1, t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; 1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atrix row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spcAft>
                <a:spcPts val="125"/>
              </a:spcAft>
              <a:buClr>
                <a:srgbClr val="3d00a4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xm3x3pad t2, t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; 2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atrix row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spcAft>
                <a:spcPts val="125"/>
              </a:spcAft>
              <a:buClr>
                <a:srgbClr val="3d00a4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xm3x3mat t3, t0, c0 ; 3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atrix row &amp; samp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spcAft>
                <a:spcPts val="125"/>
              </a:spcAft>
              <a:buClr>
                <a:srgbClr val="3d00a4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v r0, t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Texture Blending Ops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60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all Texture Address Ops, you can have up to 8 texture blending instruction slo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ch slot can hold a color and an alpha operation to be executed simultaneous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se are analogous to the old TextureStageState COLOROP and ALPHAOP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ou must add your own specular if using the Pixel Shader pipelin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Texture Blending Ops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509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st, src1, src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st = src1 + sr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b dest, src1, src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st = src1 – src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p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st, src1, src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st = ( src1.x * src2.x + src1.y * src2.y …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r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st, factor, src1, src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st = (factor)src1 + ( 1-factor)src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Texture Blending Ops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509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u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st, src0, src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st = src0 * src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d dest, src0, src1, src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st = ( src0 + src1 * src2 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 dest, src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st = src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nd dest, r0.a, src1, src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( r0.a &gt; 0.5 ) { dest = src1;  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se  { dest = src2; }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Argument Modifiers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4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pha Replica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0.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ve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 – r0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ga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r0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ias – subtract 0.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0_bias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gned Scale – 2 * ( x – 0.5f 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1+bx2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Instruction Modifiers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0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x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// double resul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x4     // quadruple resul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d2    // halve resul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sat   // clamp &lt; 0 to 0 and &lt; 1 to 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ou can use _sat together with scaling 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instance 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_bx2_sat r0, r1, t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mon Example 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p3_sat   r1, r0_bx2, t0_bx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Example Pixel Shader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31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s.1.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 DirectX8 Version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x t0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 sample normal map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xm3x2pad t1, t0_bx2 ; N dot 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xm3x2tex t2, t0_bx2  ; N dot H and sampl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 r0, t2, c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 add in ambi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 r0.a, t0.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 normal map alpha into r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86000" y="1676520"/>
            <a:ext cx="4572000" cy="457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909720" y="79164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marL="339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DX8 Pixel Shading Pipe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590920" y="2057400"/>
            <a:ext cx="2057400" cy="68580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AddrOp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590920" y="3124080"/>
            <a:ext cx="2057400" cy="68580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AddrOp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590920" y="4114800"/>
            <a:ext cx="2057400" cy="68580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AddrOp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590920" y="5181480"/>
            <a:ext cx="2057400" cy="68580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AddrOp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" y="3352680"/>
            <a:ext cx="1600200" cy="10670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steriz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2057400" y="2361960"/>
            <a:ext cx="53352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2057400" y="342900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057400" y="3886200"/>
            <a:ext cx="5335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057400" y="3886200"/>
            <a:ext cx="533520" cy="175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581280" y="27432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581280" y="38098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581280" y="48006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029200" y="3352680"/>
            <a:ext cx="1752480" cy="11430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 Textu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l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934320" y="1523880"/>
            <a:ext cx="2057400" cy="11430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ular / F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48320" y="2362320"/>
            <a:ext cx="38088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648320" y="3505320"/>
            <a:ext cx="3808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648320" y="4114800"/>
            <a:ext cx="3808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648320" y="4343040"/>
            <a:ext cx="38088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6705720" y="2514600"/>
            <a:ext cx="457200" cy="91440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620120" y="3276720"/>
            <a:ext cx="1371600" cy="1143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ph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len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05920" y="25909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76920" y="1828800"/>
            <a:ext cx="1828800" cy="8254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x8 Pixe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Dx8 Pixel Shaders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62120" y="1457280"/>
            <a:ext cx="7772400" cy="601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125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Pixel Shader is a byte stream of instructions compiled from a text fi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125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ou can compile the pixel shader at runtime during development, and then change to pre-compiled byte-streams for release m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125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semble a Pixel shader like so 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125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3DXAssembleShader( strParsedProgram.c_str(), // sour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rParsedProgram.size() - 1, //siz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,  // no fla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&amp;pConstants, // constant flo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Code,            // where to put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&amp;pCompileErrors); // get err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Dx8 Pixel Shaders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8229600" cy="46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w ask D3D for a handle to the compiled pixel shader 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D3DDev-&gt;CreatePixelShader(  pCode</a:t>
            </a:r>
            <a:r>
              <a:rPr b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tBufferPointer(),     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&amp;m_dwMyHandle )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125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select this pixel shader program like so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125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D3DDev-&gt;SetPixelShader( m_dwMyHandle )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DX8 Pixel Shaders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02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ree types of Instruc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tant Defini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spcAft>
                <a:spcPts val="125"/>
              </a:spcAft>
              <a:buClr>
                <a:srgbClr val="3d00a4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ilar to Setting the TFAC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spcAft>
                <a:spcPts val="125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xture Address Op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spcAft>
                <a:spcPts val="125"/>
              </a:spcAft>
              <a:buClr>
                <a:srgbClr val="3d00a4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tching tex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spcAft>
                <a:spcPts val="1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xture Blending Op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spcAft>
                <a:spcPts val="125"/>
              </a:spcAft>
              <a:buClr>
                <a:srgbClr val="3d00a4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bining texels, constant colors and iterated colors to produce SrcColor and SrcAlph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Setting Constants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555920"/>
            <a:ext cx="7772400" cy="570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f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#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z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s the Constant, from 0 to 7 with the appropriate floating point value , which will be clamped to be between 0.0f and 1.0f 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f c0, 1.0f, 4.0f, -10.0f, 1.0f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e that not all Constants are visible to all instruc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tructions 0-1 reference Constants 0-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tructions 2-3 reference Constants 2-3, etc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Texture Address Ops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382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ch Texture Address Op represents the use of a particular set of texture coordinat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spcAft>
                <a:spcPts val="1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ither 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spcAft>
                <a:spcPts val="13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ook up a filtered texel colo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se as a vecto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se as the part of a 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spcAft>
                <a:spcPts val="125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Texture Address Ops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x t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Just fetch a filtered texel colo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xbem tDest, tSrc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ump Environment Map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spcAft>
                <a:spcPts val="125"/>
              </a:spcAft>
              <a:buClr>
                <a:srgbClr val="3d00a4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 += 2x2 matrix( dU 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spcAft>
                <a:spcPts val="125"/>
              </a:spcAft>
              <a:buClr>
                <a:srgbClr val="3d00a4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 += 2x2 matrix( dV 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spcAft>
                <a:spcPts val="125"/>
              </a:spcAft>
              <a:buClr>
                <a:srgbClr val="3d00a4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n Sample at ( U, V 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xbeml tDest, tSrc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ump Environment Map w/ Lumin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spcAft>
                <a:spcPts val="125"/>
              </a:spcAft>
              <a:buClr>
                <a:srgbClr val="3d00a4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 += 2x2 matrix( dU 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spcAft>
                <a:spcPts val="125"/>
              </a:spcAft>
              <a:buClr>
                <a:srgbClr val="3d00a4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 += 2x2 matrix( dV 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spcAft>
                <a:spcPts val="125"/>
              </a:spcAft>
              <a:buClr>
                <a:srgbClr val="3d00a4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n Sample at ( U, V ) &amp; Apply Lumina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550"/>
              </a:spcBef>
              <a:spcAft>
                <a:spcPts val="13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Texture Address Ops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52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125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xcoord tDes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125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ust turn the texture coordinate into a col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125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xkill tDes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125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ill any texels where at least one of s,t,r,q is &lt; 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125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xm3x2pad t1, t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125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dding” instruction as part of the texm3x2tex instruction – performs a dot product of t0’s color with these texture coordinat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125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xm3x2tex t2, t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125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previous dot product from “pad” instruction as the S coordina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125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dot product of t0’s color with this texture coordinate and use as 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125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ample from a 2D texture using ( S, T )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16T23:45:55Z</dcterms:created>
  <dc:creator>Sim Dietrich</dc:creator>
  <dc:description/>
  <dc:language>en-US</dc:language>
  <cp:lastModifiedBy>Cem Cebenoyan</cp:lastModifiedBy>
  <cp:lastPrinted>1999-07-08T00:11:36Z</cp:lastPrinted>
  <dcterms:modified xsi:type="dcterms:W3CDTF">2000-11-10T02:55:57Z</dcterms:modified>
  <cp:revision>48</cp:revision>
  <dc:subject/>
  <dc:title>DX8 Pixel Shader Detail</dc:title>
</cp:coreProperties>
</file>